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06DD-2A27-4016-A842-DC582B12F1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litarytimes.com/multimedia/video/80816349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295F-6262-4348-ACD2-717D1049B53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148-DE9F-4199-940E-76CFF403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E38-D38D-4602-8BA7-DA8F8C1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FFF-B979-4F8B-92B1-306ED787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751-7FFC-45C5-9EE5-C20A3AEE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FF56-6528-4332-A66C-03908039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EB02-E024-4438-A98D-08EB1C7F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6BB7-4D54-4E79-81C4-B8CEC886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E3BA-C77C-4CB0-83EE-C07BA998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E8FA-E4E4-4CC6-83BA-F1942CB8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4E80-0119-4328-83AE-80834656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BCE8-E8A0-4C5D-AE45-F1D6A6F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455-F04D-408F-A4FA-34122236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1F37-EA37-4EA3-BCED-2A41B4F9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A51B-03EF-4742-A231-417EC59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6635-0D88-4C51-9848-6DE9E397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186F-7D73-4364-8309-E6BA37BC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6FDA-2C18-411A-9B55-40FA79AC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036-035F-4759-8691-6AAC99A9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9E0-576A-4FFE-9AED-EA06C3CF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C8B-6190-4EFC-851B-DCFA8797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9E4-87F1-43DC-889F-9386974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F96-55BF-42B8-A258-2B41C671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B7D-BAD5-4CDD-BAF8-2F948B0A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423-3057-44D7-89E9-6CFDB3C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98E3-54E4-4287-BB3D-0D42E1E6D1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B57-38E4-4933-A5E5-93F5C056B63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Medic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nda Reilly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istant Ch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ergency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et patient at hospital/at air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mac transf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to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Aircraf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U equipped with MD and ICU RN esc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35 small crafts, crow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45 larger, seats 4 in addition to patient stretcher area and doctor sea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the hospital if 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tarmac if 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flight if urg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—examine the patient thoroughly before boarding the je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 all needed interventions prior to take off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intub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chest tub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off and landing O2 concer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mbient noise makes it difficult to auscul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ustrophobic for some patients/family me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 tanks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 Cas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er Vietnamese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mbodian Deputy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soldiers in Iraq--ps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gladeshi 3 year old--rare brain tumor to cancer center in T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stralian 9 year old--severe spinal cord injury sustained on hol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injured in Mumbai bomb bl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: Common Evacuation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us diseases—dengue, malaria, entamoeba histoly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uma--scooters/taxis/private vehicles/bu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orism/War/Natural Disasters/Epidemics—Pakistan, India, B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sickness—Nep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bious pla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ly uns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me/corruption/brib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 by planes often sporad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care sub-stand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ty hospitals; old broken eqpt; very poor hygiene 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rport—small airports close or open when they want. Visiting dignitaries close airspace. Brib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—Don’t like to lose a paying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—deteriorates prior to depar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stical—weather, traffic, strikes, equipment--Nep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Perk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e and experience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op off the patient and hit the beach/local attr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a broad skill set and knowledge base—logistics, aviation medicine, negotiating different cultur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friends all over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ips at Se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ship Cap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ise on medical care on limited medical cac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ily upd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e to NCME if urg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/reroute 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locally, evacuate if nee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ve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porate Secur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enues US $2 Billion 20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il Rig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ri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gerous jobs/equi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cac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s trained loc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eduled supply boats or helicop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s: Poor access to rigs at n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ather conside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rcraft Carri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ercial aircra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guage difficul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che limi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dardized  bag/m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ills of flight cr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telephone conn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lemedicine: Aircraft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velers may decline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irline personnel well trained—Sing airlines--AED, good protocol, standardized presentation. Others no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a doctor on bo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lemedicine: Diver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you divert the pla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is the NC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or in time to get to receiving ca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Teach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s on oil rigs/Captains on shi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inor surgical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 case-by-case teaching on ph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Sales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lk about work as 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swer questions regarding what we 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information, question and answer sessions for cli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ted ISOS clinics for special events—e.g., annual meetings, Olymp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ents abroad—University as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e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trained doctors are highly regarded and highly sought around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rnational Trauma Conferenc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ngapore, Feb 200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jor John Oh—US Army Surgeon, Afghanist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militarytimes.com/multimedia/video/808163493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evacuation insu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private travelers/NG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Fortune 500 companies and their ex-pat employ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US military personnel and their families overseas (Trica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il rigs/Airlines-crews,pax/Shi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rdinating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um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e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Coordinating do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memb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 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ad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errals to local providers and fac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ice on medical advice recei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al ad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 transf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--tarma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rcial c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tcher vs se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—no supplemental O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 through usual channe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medical care in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quent communication with treating do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return to work site or repatr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medical escort as indic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Loc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ver ISOS Clinics*/ Alarm Cen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ijing, Hong Kong, Ch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nom Penh, Cambod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angon, Myanmar*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khalin Island, Russ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 Chin Minh*, Hanoi, Viet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ngkok, Thai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i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i*, Jakarta, Indone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2:52:29Z</dcterms:created>
  <dc:creator>International SOS Pte Ltd</dc:creator>
  <dc:description/>
  <dc:language>en-US</dc:language>
  <cp:lastModifiedBy>HCMARTINEZ</cp:lastModifiedBy>
  <dcterms:modified xsi:type="dcterms:W3CDTF">2009-09-03T19:09:15Z</dcterms:modified>
  <cp:revision>12</cp:revision>
  <dc:subject/>
  <dc:title> evacuation medicine</dc:title>
</cp:coreProperties>
</file>